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1EE89-1176-4753-A970-1AA27FBCC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3033E-6A59-4741-A085-3BEA168DA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2E00-6347-42F1-8389-355A877306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B627-7F93-41E3-A224-C7B7BB7C78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16D0-5FB8-4277-B814-3210ADEBE1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BF72-3127-4C5E-9EC1-D1E1C540E6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FFCD-23F6-4BEB-AB66-FCECF3FBBA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37C0-4BFA-4A4F-84D4-CBCA51D895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1217-BD47-4E2E-BD66-1FDC93EB8B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887A-F69D-4850-B5B7-50DFFF3181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F996-8D10-4A6C-A590-8EF988A20A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2D71-C291-4CDF-A0B7-ECE68B0008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C8F4-5E33-4903-B52E-4A6C23B243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F02A-1352-4D01-8D98-8B81E02CA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grey_9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0"/>
          <p:cNvSpPr/>
          <p:nvPr/>
        </p:nvSpPr>
        <p:spPr>
          <a:xfrm>
            <a:off x="380880" y="6093000"/>
            <a:ext cx="8305920" cy="0"/>
          </a:xfrm>
          <a:prstGeom prst="line">
            <a:avLst/>
          </a:prstGeom>
          <a:ln w="38160">
            <a:solidFill>
              <a:srgbClr val="0d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21"/>
          <p:cNvSpPr/>
          <p:nvPr/>
        </p:nvSpPr>
        <p:spPr>
          <a:xfrm>
            <a:off x="457200" y="6148440"/>
            <a:ext cx="830592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23"/>
          <p:cNvSpPr/>
          <p:nvPr/>
        </p:nvSpPr>
        <p:spPr>
          <a:xfrm>
            <a:off x="457200" y="1378080"/>
            <a:ext cx="830592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4"/>
          <p:cNvSpPr/>
          <p:nvPr/>
        </p:nvSpPr>
        <p:spPr>
          <a:xfrm>
            <a:off x="380880" y="1322280"/>
            <a:ext cx="8305920" cy="0"/>
          </a:xfrm>
          <a:prstGeom prst="line">
            <a:avLst/>
          </a:prstGeom>
          <a:ln w="38160">
            <a:solidFill>
              <a:srgbClr val="0d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iis_rgb"/>
          <p:cNvPicPr/>
          <p:nvPr/>
        </p:nvPicPr>
        <p:blipFill>
          <a:blip r:embed="rId2"/>
          <a:stretch/>
        </p:blipFill>
        <p:spPr>
          <a:xfrm>
            <a:off x="6083280" y="298440"/>
            <a:ext cx="2536920" cy="7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8" descr=""/>
          <p:cNvPicPr/>
          <p:nvPr/>
        </p:nvPicPr>
        <p:blipFill>
          <a:blip r:embed="rId3"/>
          <a:stretch/>
        </p:blipFill>
        <p:spPr>
          <a:xfrm>
            <a:off x="403200" y="304920"/>
            <a:ext cx="2425680" cy="53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grey_9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1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2"/>
          </p:nvPr>
        </p:nvSpPr>
        <p:spPr>
          <a:xfrm>
            <a:off x="65876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fld id="{8F323198-C508-43A3-8B5C-9E45F8BD59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0" y="115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800" y="49806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202716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o Processing, Summer Term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400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1700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565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0" y="4365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Affil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465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@mail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lk should last at most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30 minutes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dress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e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ain the concepts in your ow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ve many illustrative exampl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41080" y="15559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 with pictures rather than with 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:\__Teaching\__2010_WS_Seminar_MusicSignalProcessing\Website\Tempogram.png"/>
          <p:cNvPicPr/>
          <p:nvPr/>
        </p:nvPicPr>
        <p:blipFill>
          <a:blip r:embed="rId1"/>
          <a:stretch/>
        </p:blipFill>
        <p:spPr>
          <a:xfrm>
            <a:off x="1187280" y="2565360"/>
            <a:ext cx="388944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:\__Teaching\__2010_WS_Seminar_MusicSignalProcessing\Website\MuellerGrosche_InformatikSpektrum_withoutTime.tif"/>
          <p:cNvPicPr/>
          <p:nvPr/>
        </p:nvPicPr>
        <p:blipFill>
          <a:blip r:embed="rId2"/>
          <a:stretch/>
        </p:blipFill>
        <p:spPr>
          <a:xfrm>
            <a:off x="5580000" y="2852640"/>
            <a:ext cx="2695680" cy="269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:\__Teaching\__2010_WS_Seminar_MusicSignalProcessing\Website\music.jpg"/>
          <p:cNvPicPr/>
          <p:nvPr/>
        </p:nvPicPr>
        <p:blipFill>
          <a:blip r:embed="rId3"/>
          <a:stretch/>
        </p:blipFill>
        <p:spPr>
          <a:xfrm>
            <a:off x="1476360" y="4221000"/>
            <a:ext cx="29876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45040" y="15559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lude audio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4573440" y="1628640"/>
            <a:ext cx="358920" cy="28764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7" y="3794"/>
                </a:moveTo>
                <a:lnTo>
                  <a:pt x="20479" y="10800"/>
                </a:lnTo>
                <a:lnTo>
                  <a:pt x="6467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References and Acknowledg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cover_book_2"/>
          <p:cNvPicPr/>
          <p:nvPr/>
        </p:nvPicPr>
        <p:blipFill>
          <a:blip r:embed="rId1"/>
          <a:stretch/>
        </p:blipFill>
        <p:spPr>
          <a:xfrm>
            <a:off x="755640" y="1773360"/>
            <a:ext cx="2190600" cy="3311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306600" y="1771560"/>
            <a:ext cx="324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üller, Mein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Retrieval for Music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, XVI. 318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6 illus. 39 in Color, Hard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: 978-3-540-7404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ringer.com/978-3-540-74047-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,50 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2:49:17Z</dcterms:created>
  <dc:creator>Conny Liegl</dc:creator>
  <dc:description/>
  <dc:language>en-US</dc:language>
  <cp:lastModifiedBy>Meinard Müller</cp:lastModifiedBy>
  <dcterms:modified xsi:type="dcterms:W3CDTF">2013-05-13T12:30:13Z</dcterms:modified>
  <cp:revision>125</cp:revision>
  <dc:subject/>
  <dc:title>Slide 1</dc:title>
</cp:coreProperties>
</file>