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B40C74-C2AF-41ED-8C74-83BA2D454D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81353A-1644-4C11-8D85-28DD291177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38296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829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400" y="3829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0800" y="11966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3240" y="11966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38296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0800" y="38296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3240" y="38296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1360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60" y="3829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400" y="3829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8296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360" y="38296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829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400" y="3829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0800" y="11966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33240" y="11966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360" y="38296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0800" y="38296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33240" y="38296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BF978-E7EA-4E1F-9818-E4A459C866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CDE17-78C5-4AB9-83A5-2BC79D58FFF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92500-8D33-44BD-9979-5AE32455B55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A82D5-4F37-44D4-9B79-48DABB3AA1F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8A934-F0B2-4603-8A46-6855AE5515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1360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9C06C-66CC-494A-85B9-F0FDE5A41E6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8360" y="3829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F963F-81A2-498B-8187-2C9C5548728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400" y="3829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4A1D7-CF4C-48AC-A99F-B363973B6B2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8360" y="38296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67F68-9832-4C51-AF70-5C29CF6A9B7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360" y="38296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B1A2D-ED49-4653-81F6-842E11282D6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8360" y="3829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400" y="3829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442AB-1C03-4AC9-A5AF-EE6CE949CDE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0800" y="11966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33240" y="11966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360" y="38296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0800" y="38296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33240" y="38296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7D366-96C5-414A-9946-44901AAA3A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1360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3829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400" y="3829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8296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aed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6" descr="grey_90"/>
          <p:cNvPicPr/>
          <p:nvPr/>
        </p:nvPicPr>
        <p:blipFill>
          <a:blip r:embed="rId2"/>
          <a:stretch/>
        </p:blipFill>
        <p:spPr>
          <a:xfrm>
            <a:off x="0" y="0"/>
            <a:ext cx="9144000" cy="18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Line 20"/>
          <p:cNvSpPr/>
          <p:nvPr/>
        </p:nvSpPr>
        <p:spPr>
          <a:xfrm>
            <a:off x="380880" y="6093000"/>
            <a:ext cx="8305920" cy="0"/>
          </a:xfrm>
          <a:prstGeom prst="line">
            <a:avLst/>
          </a:prstGeom>
          <a:ln w="38160">
            <a:solidFill>
              <a:srgbClr val="0d3f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Line 21"/>
          <p:cNvSpPr/>
          <p:nvPr/>
        </p:nvSpPr>
        <p:spPr>
          <a:xfrm>
            <a:off x="457200" y="6148440"/>
            <a:ext cx="8305920" cy="0"/>
          </a:xfrm>
          <a:prstGeom prst="line">
            <a:avLst/>
          </a:prstGeom>
          <a:ln w="2844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Line 23"/>
          <p:cNvSpPr/>
          <p:nvPr/>
        </p:nvSpPr>
        <p:spPr>
          <a:xfrm>
            <a:off x="457200" y="1378080"/>
            <a:ext cx="8305920" cy="0"/>
          </a:xfrm>
          <a:prstGeom prst="line">
            <a:avLst/>
          </a:prstGeom>
          <a:ln w="2844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24"/>
          <p:cNvSpPr/>
          <p:nvPr/>
        </p:nvSpPr>
        <p:spPr>
          <a:xfrm>
            <a:off x="380880" y="1322280"/>
            <a:ext cx="8305920" cy="0"/>
          </a:xfrm>
          <a:prstGeom prst="line">
            <a:avLst/>
          </a:prstGeom>
          <a:ln w="38160">
            <a:solidFill>
              <a:srgbClr val="0d3f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9" descr="iis_rgb"/>
          <p:cNvPicPr/>
          <p:nvPr/>
        </p:nvPicPr>
        <p:blipFill>
          <a:blip r:embed="rId2"/>
          <a:stretch/>
        </p:blipFill>
        <p:spPr>
          <a:xfrm>
            <a:off x="6083280" y="298440"/>
            <a:ext cx="2536920" cy="719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8" descr=""/>
          <p:cNvPicPr/>
          <p:nvPr/>
        </p:nvPicPr>
        <p:blipFill>
          <a:blip r:embed="rId3"/>
          <a:stretch/>
        </p:blipFill>
        <p:spPr>
          <a:xfrm>
            <a:off x="403200" y="304920"/>
            <a:ext cx="2425680" cy="538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aed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grey_90"/>
          <p:cNvPicPr/>
          <p:nvPr/>
        </p:nvPicPr>
        <p:blipFill>
          <a:blip r:embed="rId2"/>
          <a:stretch/>
        </p:blipFill>
        <p:spPr>
          <a:xfrm>
            <a:off x="0" y="0"/>
            <a:ext cx="9144000" cy="189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aed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1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2"/>
          </p:nvPr>
        </p:nvSpPr>
        <p:spPr>
          <a:xfrm>
            <a:off x="65876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fld id="{448C44BB-9D51-4AB2-8B14-F01D70C3F5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0" y="1158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274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1800" y="498060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0" y="202716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dio Processing, Summer Term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0" y="40053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0" y="17002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min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0" y="256536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0" y="43657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Affil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0" y="46530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@mail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66"/>
                </a:solidFill>
                <a:latin typeface="Arial"/>
              </a:rPr>
              <a:t>General Commen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632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alk should last at most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30 minutes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dress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tivate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lain the concepts in your ow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ve many illustrative examples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66"/>
                </a:solidFill>
                <a:latin typeface="Arial"/>
              </a:rPr>
              <a:t>General Commen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541080" y="155592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k with pictures rather than with form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I:\__Teaching\__2010_WS_Seminar_MusicSignalProcessing\Website\Tempogram.png"/>
          <p:cNvPicPr/>
          <p:nvPr/>
        </p:nvPicPr>
        <p:blipFill>
          <a:blip r:embed="rId1"/>
          <a:stretch/>
        </p:blipFill>
        <p:spPr>
          <a:xfrm>
            <a:off x="1187280" y="2565360"/>
            <a:ext cx="3889440" cy="1096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I:\__Teaching\__2010_WS_Seminar_MusicSignalProcessing\Website\MuellerGrosche_InformatikSpektrum_withoutTime.tif"/>
          <p:cNvPicPr/>
          <p:nvPr/>
        </p:nvPicPr>
        <p:blipFill>
          <a:blip r:embed="rId2"/>
          <a:stretch/>
        </p:blipFill>
        <p:spPr>
          <a:xfrm>
            <a:off x="5580000" y="2852640"/>
            <a:ext cx="2695680" cy="2694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I:\__Teaching\__2010_WS_Seminar_MusicSignalProcessing\Website\music.jpg"/>
          <p:cNvPicPr/>
          <p:nvPr/>
        </p:nvPicPr>
        <p:blipFill>
          <a:blip r:embed="rId3"/>
          <a:stretch/>
        </p:blipFill>
        <p:spPr>
          <a:xfrm>
            <a:off x="1476360" y="4221000"/>
            <a:ext cx="298764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66"/>
                </a:solidFill>
                <a:latin typeface="Arial"/>
              </a:rPr>
              <a:t>General Commen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545040" y="1555920"/>
            <a:ext cx="33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clude audio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4573440" y="1628640"/>
            <a:ext cx="358920" cy="287640"/>
          </a:xfrm>
          <a:custGeom>
            <a:avLst/>
            <a:gdLst>
              <a:gd name="textAreaLeft" fmla="*/ 18360 w 358920"/>
              <a:gd name="textAreaRight" fmla="*/ 340560 w 35892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6946" h="21600">
                <a:moveTo>
                  <a:pt x="0" y="0"/>
                </a:moveTo>
                <a:lnTo>
                  <a:pt x="26946" y="0"/>
                </a:lnTo>
                <a:lnTo>
                  <a:pt x="26946" y="21600"/>
                </a:lnTo>
                <a:lnTo>
                  <a:pt x="0" y="21600"/>
                </a:lnTo>
                <a:close/>
              </a:path>
              <a:path fill="lightenLess" w="26946" h="21600">
                <a:moveTo>
                  <a:pt x="0" y="0"/>
                </a:moveTo>
                <a:lnTo>
                  <a:pt x="26946" y="0"/>
                </a:lnTo>
                <a:lnTo>
                  <a:pt x="25546" y="1400"/>
                </a:lnTo>
                <a:lnTo>
                  <a:pt x="1400" y="1400"/>
                </a:lnTo>
                <a:close/>
              </a:path>
              <a:path fill="darken" w="26946" h="21600">
                <a:moveTo>
                  <a:pt x="26946" y="0"/>
                </a:moveTo>
                <a:lnTo>
                  <a:pt x="26946" y="21600"/>
                </a:lnTo>
                <a:lnTo>
                  <a:pt x="25546" y="20200"/>
                </a:lnTo>
                <a:lnTo>
                  <a:pt x="25546" y="1400"/>
                </a:lnTo>
                <a:close/>
              </a:path>
              <a:path fill="darkenLess" w="26946" h="21600">
                <a:moveTo>
                  <a:pt x="26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46" y="20200"/>
                </a:lnTo>
                <a:close/>
              </a:path>
              <a:path fill="lighten" w="26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46" h="21600">
                <a:moveTo>
                  <a:pt x="6467" y="3794"/>
                </a:moveTo>
                <a:lnTo>
                  <a:pt x="20479" y="10800"/>
                </a:lnTo>
                <a:lnTo>
                  <a:pt x="6467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66"/>
                </a:solidFill>
                <a:latin typeface="Arial"/>
              </a:rPr>
              <a:t>References and Acknowledgemen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1" name="Picture 5" descr="cover_book_2"/>
          <p:cNvPicPr/>
          <p:nvPr/>
        </p:nvPicPr>
        <p:blipFill>
          <a:blip r:embed="rId1"/>
          <a:stretch/>
        </p:blipFill>
        <p:spPr>
          <a:xfrm>
            <a:off x="755640" y="1773360"/>
            <a:ext cx="2190600" cy="33112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3306600" y="1771560"/>
            <a:ext cx="3241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üller, Mein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Retrieval for Music and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, XVI. 318 p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6 illus. 39 in Color, Hardc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BN: 978-3-540-74047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ringer.com/978-3-540-74047-6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9,50 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12:49:17Z</dcterms:created>
  <dc:creator>Conny Liegl</dc:creator>
  <dc:description/>
  <dc:language>en-US</dc:language>
  <cp:lastModifiedBy>Meinard Müller</cp:lastModifiedBy>
  <dcterms:modified xsi:type="dcterms:W3CDTF">2013-05-13T12:30:13Z</dcterms:modified>
  <cp:revision>125</cp:revision>
  <dc:subject/>
  <dc:title>Slide 1</dc:title>
</cp:coreProperties>
</file>